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7A563D-BD67-4A55-B5CA-C4F49E375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C98DFE-6EED-4F92-8676-F0C207C01AA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BB309B-28DC-4F3E-88C5-C4CB968C65F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6A670E-3DC0-45CE-90AC-D2C32C4F2C1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AB2AE3-71A3-4A2A-9E4E-9252DD6BA35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BDFD70-F332-403D-9205-48167358816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8CD07C-1AC6-498C-9AB2-6F34D05666F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FBC337-2BB4-4C74-9056-A2CA331B63D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C92C92-566E-40DA-AED7-E512B98335A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DD7962-42CC-45FA-925C-DEB58691A4D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51E5F5-D6B0-47EB-8023-973BED04E80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492DE7-AE9A-465F-90A1-2288A428159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4B9229-D5CE-4B5F-A99F-E4777D86153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2A9FF1-5ED3-4BD3-A1CA-A15430F8050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3A3611-5B46-49AA-9A85-461B7F6BE8A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8A5849-07A5-4256-8235-15B04A7A01E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C108AE-B2F5-4B5A-BF7E-FCFECC95432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A58F81-8CC2-4A84-B566-FAC6DA2D0EE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D88-A34D-4F4C-8EC2-CE44EB0B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8E2-46E4-434B-98CF-29F5E709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BC0-8104-4DA8-993E-77C7DBD8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FF3-D3C0-4A45-993E-C9DE16B7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FA35-98ED-4E70-898B-C3A3DA50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F1F2-B25B-4C59-8EDC-4CFD08EB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E8DA-CFD1-49E0-989A-46C5BCDB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6939-52D2-4656-A262-D5F735E9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0DF-B481-4B85-8FC2-BC2ECC3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DE91-AEC1-4D28-A63F-3EBEAC8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DF05-4987-4679-9ECC-6757FD5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B69-7B62-4770-9EBC-BB5C58E8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139D-FD53-442F-B1D9-B04CF04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34C7-BE03-4C1A-9643-32B7636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8289-F25C-4EF8-9825-C71F804A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1FCF-947B-45D2-A0D9-9CE177E7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A688-A93B-475B-AA6E-275845F7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DBF3-264E-44D2-9189-FF660B38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4275-9E12-4EAF-B040-7DD2DD81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E895-6149-4BF2-B56C-EC11A045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25A1-750B-4B21-AA94-DBE8C3B8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E313-ACC5-43A8-B8FE-ED748F4A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995-9934-4FFF-948D-8EFE2967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CEF4-8F19-4375-8715-E9552875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27DE-C487-4217-97B5-A19E243E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C8F5-3001-4119-91AA-971A54EA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5B79-83A0-4375-AB88-8C8585B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8A9D-77EA-4A63-960C-D4290299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02AE-710A-4634-B5D4-64F2D73E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52DE-7114-407D-8402-02C95322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A4F0-A46C-4347-B595-C2642B1B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0A67-2CB8-4900-B853-B1DFC150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AFD8-9FCB-4D55-A154-B1C53132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6E7-E992-4C0E-B7B8-93380CFB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6DCC-9B72-4A91-BE2C-CD7C3CD0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6F71-5D57-4186-A9CF-FDCBA58B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6046-9743-4D23-B6D3-7B6F5C21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D425B-3559-412C-86CB-B2F4E04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33158-D477-4366-BA05-5A22632A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2D5B0-1791-4F07-A7BC-B5674DE2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1F4D-2A02-41C3-8891-B887498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D5557-7EEE-405F-B822-3EE541FF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791B3-1A5A-4D20-BB0D-144F4A85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415C-6498-4F0A-852A-F022D8E5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DA0-36FA-4968-B2BF-BC38FE1B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B4DD7-C899-49B6-A044-F5CA2514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41D56-00EE-43A9-847C-86F39A0F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96721-8BBA-4234-A4B8-7725FD91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6D95-408E-480B-8F5B-79F68AEB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7FAD7-066E-4CCE-808E-82775C2A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07F46-2A2D-455A-800E-CAAFF39C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B3D5D-7F8C-4008-9562-B6BF8D34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715C-0AAA-42DB-95BC-B336FCE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51A68-8251-4CF9-AB78-08E572B1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37BE3-7D07-469B-9672-9D498806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2C3-5A6A-47F0-80EA-D12500C1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60ED-3409-47D4-A500-5DEF16F8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8CBE-F044-41BF-8A46-3A2C04CC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29311-D0D1-400A-AE45-E64E39F4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07D29-15EA-486F-9D27-C3D742A2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601EC-684C-46D1-823B-9D943B17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FA5DD-BB6A-45D0-9F84-71504C17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7AE4-0F00-4DAD-91CF-65FBCFB1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3012F-FCC1-4251-826C-0814D1B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76C6-B5D5-42F4-A220-1B5DA56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98670-2534-401B-86AA-CA1B9FD7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E47-F088-431B-A6B0-E571708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DDA4A-2104-4D71-A047-9C9F312B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CE87F-4006-4970-9089-B4B60FE5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A44D-B5B9-491C-9648-89FA4109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5F7-DFAB-49E3-9CD1-14D11B4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AE9-C37F-4C7B-B619-3EAB6477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6D82-6F7B-47B1-95B5-37B29ABC69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5C58-2EA1-402A-8B1C-9D9BD931A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99F8-952B-4451-9474-BC8A68AB55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A107-E4F0-4A5F-BBF0-ED57D6106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A617-8BD4-4EF8-A133-054B59D23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BA53-A500-4AEF-BD4A-BA3DBC1D80DF}" type="slidenum">
              <a:rPr b="0" lang="en-US" sz="1400" spc="-1" strike="noStrike">
                <a:solidFill>
                  <a:srgbClr val="a9a9a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99640" y="1758600"/>
            <a:ext cx="7356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4b"/>
                </a:solidFill>
                <a:latin typeface="Times New Roman"/>
              </a:rPr>
              <a:t>Member Body Compliance Program</a:t>
            </a:r>
            <a:endParaRPr b="0" lang="en-US" sz="3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9840" y="2975040"/>
            <a:ext cx="824724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ell Guthrie, Executive Director</a:t>
            </a:r>
            <a:endParaRPr b="0" lang="en-US" sz="24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ctober 19, 2011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Member sets the ethical requirements through a mandate implied by general consens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ed IESBA Code of Ethics in 2008 without any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ssuing the current IESBA CoE with Jan 2012 effective dat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tion Plan focus on implementation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alawi – Direct Adop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 clearly used as a major point of referenc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awareness among PAO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 and rules at a national level often embedded in legislation, regulation and member body governance document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challen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ing cultural barrier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verarching The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(MinFin, Ministry of Justice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s (Capital Market, Insurance, Banking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cy organiza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differences, even different understanding of the concept of moralit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lex National Environ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ors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ig firm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s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ts in Busines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ccounta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Finance Accountant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ing Technician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ing MB Constituencie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ent than Standards that Tend to be Adopted en Block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238" t="0" r="12688" b="4356"/>
          <a:stretch/>
        </p:blipFill>
        <p:spPr>
          <a:xfrm>
            <a:off x="1270080" y="1549440"/>
            <a:ext cx="6719760" cy="472104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 Re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no best endeavors where PAO has direct responsibility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“no less stringent standards” langaug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best track and articulate “adoption” of CoE and/or key independence pro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is will determine whether local modifications are substantive (i.e., lead to different outcomes)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314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315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6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7" name="Text Placeholder 7"/>
          <p:cNvSpPr/>
          <p:nvPr/>
        </p:nvSpPr>
        <p:spPr>
          <a:xfrm>
            <a:off x="2236680" y="3421080"/>
            <a:ext cx="49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Body Compliance Program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gram and Compliance Advisory Panel launched in 2004 as part of IFAC Refor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ed 7 Statements of Membership Obligations (SMOs)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A, Education, ISAs, Ethics, IPSASs, I&amp;D, IFR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IOB oversigh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A Brief Histor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continuous improvement of strong PAOs through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PAOs’ agendas and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nd knowledge sha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 with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ic Consider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1 – Information Gathering: Overview of regulatory and standard-setting framework in a member’s jurisdic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2 – Self-assessment: Benchmarking against the 7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3 – Own Strategy: Action Plans for development &amp; continuous improvement in addressing the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tinuous Development and Improve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Beginning of the Road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Plans as first step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plans for continuous improvement (153 out of 163 published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updates by all member bodi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 of progress by the CAP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and resources needed to achieve meaningful chang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each activities and policy advice provided by the IFAC Staf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ate – key focus on commitment to and participation in the Compliance Progra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ment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suspen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suspen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expul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expul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Enforcement – since 2005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Working on adoption of the recent Cod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ion environment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hics Committee of the Audit Council under Min Fin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dependence rules must eventually be aligned with Russian legislation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itial proposal to start with existing Russian CoE (based of old and abbreviated version of IESBA Code) and then make necessary addition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ditors and accountants need different Code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Staff providing guidance and analysis to PAOs, Large Firms, MoF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ussia –Drivers of Local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allenges: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arriers of legal, institutional, cultural and financial nature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ongoing mechanism for adopting and implementing change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current translation makes it difficult to discuss with regulators, analyze independence requirements and organize relevant communications and training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 achieve meaningful change a thorough cultural change is needed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coordinates formation of a Latin America Review Committee to facilitate translation at the regional level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Latin America – Multiple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stry of Justice adopts ethical requirements for CNCC: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for CNCC endorsed by MinJus in consultation with AMF (securities market regulator), and the H3C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are considered to be more stringent than IESBA Code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SOEC drafts its ethical requirements to be approved by Ministry of Economy and Finance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rect incorporation of IESBA code impossible due to a different structure (Ordinance of 1945, OEC bylaws, other doctrinal texts) 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oth French Bodies are planning to promote the adoption of the recent IESBA CoE to the Government 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France – More Stringent Requir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X100</cp:lastModifiedBy>
  <dcterms:modified xsi:type="dcterms:W3CDTF">2012-02-15T15:21:06Z</dcterms:modified>
  <cp:revision>488</cp:revision>
  <dc:subject/>
  <dc:title>Slide 1</dc:title>
</cp:coreProperties>
</file>